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9.wmf" ContentType="image/x-wmf"/>
  <Override PartName="/ppt/media/image10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399-EC67-4E0B-824A-75A332B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577-A950-4BFF-949C-E3118383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553-434C-4695-9F42-55A94944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141-5279-4228-B034-3DA5EEDB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396-737E-4DA8-B6B1-A93CF204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18F-9C98-4677-BBD3-59D124D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5B8-108A-4B4E-A0BC-BE0944C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021-829A-4176-B4C7-DF1951A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8B8-5036-4450-B151-A05184C1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8FD-1371-44C6-83FB-5AB2CB1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DD5-4C79-4E5D-872A-18D70DA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DF7-D7AC-4AB2-ABF8-56720C2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692C-F9D1-46EB-BA3E-7E664458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Kristen ITC"/>
              </a:rPr>
              <a:t>Lesson 5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Kristen ITC"/>
              </a:rPr>
              <a:t>Exploring Repeating Dec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is 066"/>
          <p:cNvPicPr/>
          <p:nvPr/>
        </p:nvPicPr>
        <p:blipFill>
          <a:blip r:embed="rId1"/>
          <a:stretch/>
        </p:blipFill>
        <p:spPr>
          <a:xfrm>
            <a:off x="1447920" y="0"/>
            <a:ext cx="6172200" cy="302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uld you write the decimal 0.454545… as a fra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unset"/>
          <p:cNvPicPr/>
          <p:nvPr/>
        </p:nvPicPr>
        <p:blipFill>
          <a:blip r:embed="rId1"/>
          <a:stretch/>
        </p:blipFill>
        <p:spPr>
          <a:xfrm>
            <a:off x="4572000" y="18288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oday’s lesson, we will look for patterns that can help us write repeating decimals as fractions.  Let’s begin working on the problem (5.3) and follow-up in pairs (pgs. 57-58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udents will break off into pai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Problem 5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Page 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A, B, C, 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*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Cj04298270000[1]"/>
          <p:cNvPicPr/>
          <p:nvPr/>
        </p:nvPicPr>
        <p:blipFill>
          <a:blip r:embed="rId1"/>
          <a:stretch/>
        </p:blipFill>
        <p:spPr>
          <a:xfrm>
            <a:off x="5276880" y="1905120"/>
            <a:ext cx="2616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 has a decimal representation with a one-digit repeating pattern,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repetend is the number in the num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9 has a decimal representation with a two-digit repe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 followed by the number in the numerator if that number is less than 10; the number in the numerator if that number is equal to or greater than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99 has a decimal representation with a three-digit repetend: two 0’s followed by the number  in the numerator if that number is less than 10; one 0 followed by the number in the numerator if that number is equal to or 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ut less than 1000; the number in the numerator if that number is equal to or greater tha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roblem 5.3 Follow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age 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99=0.0101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99=0.020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99=0.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with a denominator of 99 is equal to a repeating decimal.  The repeating pattern has two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999=0.001001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999=0.00200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999=0.0030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999=0.01001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with a denominator of 999 is equal to a repeating decimal.  The repeating pattern has 3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0.333…=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0.050505…=5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0.454545…=45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0.045045…=45/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10.1212…=10 12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3.999…=3 9/9,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atterns in the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Question: What is the decimal representation for 19/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0/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rite 19/9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rite 20/9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LCOS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 PACING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D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9880" y="2895480"/>
          <a:ext cx="4876920" cy="3276720"/>
        </p:xfrm>
        <a:graphic>
          <a:graphicData uri="http://schemas.openxmlformats.org/drawingml/2006/table">
            <a:tbl>
              <a:tblPr/>
              <a:tblGrid>
                <a:gridCol w="717840"/>
                <a:gridCol w="623880"/>
                <a:gridCol w="923760"/>
                <a:gridCol w="803160"/>
                <a:gridCol w="1808280"/>
              </a:tblGrid>
              <a:tr h="32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4a, 4b, 5, 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-1, IV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1, V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ed Math Moving Straight Ahead – Investigation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T Standards 4 &amp;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87-A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: What fraction is equivalent to 4.111111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(write as a fraction and mixed nu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MPj02016340000[1]"/>
          <p:cNvPicPr/>
          <p:nvPr/>
        </p:nvPicPr>
        <p:blipFill>
          <a:blip r:embed="rId1"/>
          <a:stretch/>
        </p:blipFill>
        <p:spPr>
          <a:xfrm>
            <a:off x="48006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sw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111…=37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ixed number: 4 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ational / Ir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 you know?  Refer to text page 58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http://www.eduplace.com/math/mathsteps/7/a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7_rationals_what1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ational/Ir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th Video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04920" y="324576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youtube.com/watch?v=OjjcF0t6CZ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3825720"/>
            <a:ext cx="7315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Kristen ITC"/>
              </a:rPr>
              <a:t>A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Page 59 # 5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Pages 61-62 # 26 -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Problem #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iscussion / A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Reflections Page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dditional Resources/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Fractions to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earner.org/channel/courses/learningmath/number/session7/part_a/ring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Well Planned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lencoe.com/sec/math/msmath/mac04/course2/webquest/unit3.ph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teractive activities: www.ap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teractive activities: www.a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Baseball Game: http://www.funbrain.com/mat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8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ents will be able to distinguish between terminating and repeat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tudents will be able to identify rational and irrationa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onvert decimals to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identify patterns in repeat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blem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ecimal representations of 1/33, 2/33, 3/33, and 4/3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other fractions with decimal representations the same as those of 1/33, 2/33, 3/33, and 4/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434411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nswers to 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3=.03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3=.0606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3=.09090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33=.121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2/66=.03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66=.0606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/66=.09090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66=.121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Kristen ITC"/>
              </a:rPr>
              <a:t>Review-Problem 5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fraction as a decimal.  Tell whether the decimal is terminating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eating.  If the decimal is repeating,  tell which digit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) 2/3   B) 3/8   C)  5/6   D) 35/10   E)  8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ounting decimal places (power of 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ce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nds-on role play activi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Counting the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ttp://arcytech.org/java/b10blocks/countin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Kristen ITC"/>
              </a:rPr>
              <a:t>Problem 5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/3 =0.666… 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/8 =0.375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/6 =0.8333…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5/10 =3.5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/99 =0.080808…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rip 2008 099"/>
          <p:cNvPicPr/>
          <p:nvPr/>
        </p:nvPicPr>
        <p:blipFill>
          <a:blip r:embed="rId1"/>
          <a:stretch/>
        </p:blipFill>
        <p:spPr>
          <a:xfrm>
            <a:off x="4419720" y="15238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action representation of the decimal 0.333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33/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Journal: Explain how you got your answer and why the other two are in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0.333… equal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iscuss journal e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1:46:16Z</dcterms:created>
  <dc:creator>ADAM</dc:creator>
  <dc:description/>
  <dc:language>en-US</dc:language>
  <cp:lastModifiedBy>ADAM</cp:lastModifiedBy>
  <dcterms:modified xsi:type="dcterms:W3CDTF">2008-06-13T03:06:01Z</dcterms:modified>
  <cp:revision>46</cp:revision>
  <dc:subject/>
  <dc:title>Lesson 5.3</dc:title>
</cp:coreProperties>
</file>